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F5A-B3A7-4AE1-A7F5-D8046C4C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B71-6506-483B-9259-25EFD2EA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9A6-70B4-400A-B4BD-BA341447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59C-DE54-4BB7-A0B0-4CA9A7F8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EFA-BB54-4296-B446-DE9B0F3A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0A-67AF-4F2D-AACA-A721CE4C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2FC-2D27-405C-82C2-F1F8483C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4AD-A34C-4BAB-AE33-58226DF7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764-0D0C-40EF-9791-DDA0B0BD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BFE-1FF0-4781-9194-F3975D6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5C3-C508-4EFE-AA04-5EAD500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FC7-FB1D-448D-9471-5BAE3F1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EA4-76AB-4383-8881-4B050CBD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4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ognados en in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ínto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l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y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b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pi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ntib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¿Que te duele?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¿Tienes dolor 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9047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16858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553080" y="1676520"/>
            <a:ext cx="198144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36656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143000" y="4724280"/>
            <a:ext cx="1724040" cy="129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0560" y="121932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 hurts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7160" y="121932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 you have…p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560" y="60199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0" y="4038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9800" y="34290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8200" y="380988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720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0440" y="35812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600" y="36576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640" y="640080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9120" y="60958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4760" y="6400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3860640"/>
            <a:ext cx="35049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84960" y="380880"/>
            <a:ext cx="237816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870280" cy="215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7120" y="2590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0" y="304812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5000" y="2286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4720" y="27432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9000" y="29718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63480" y="3352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640" y="5867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760" y="62485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7720" y="60199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todo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8440" y="6400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631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2362320" cy="1587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72200" y="4572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172200" y="35812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2361960" cy="204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685440" y="51055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962520"/>
            <a:ext cx="2286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600" y="1981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280" y="25909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med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960" y="29718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7560" y="2438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1560" y="22860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me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50840" y="2666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do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22120" y="22096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00" y="5791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rec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7440" y="5562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as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03520" y="5943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íl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4160" y="5715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farmac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36800" y="54100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farmacé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2840" y="28195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enferm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2895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onsul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Farma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Caja d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Exami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Rece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V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espa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¿Qué te pas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¡Qué enfermo(a) esto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79680" y="0"/>
            <a:ext cx="225900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57800" y="1295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123720" y="1143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800600" y="60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48120" y="16002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981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9120" y="304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os o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6520" y="10666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or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220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2040" y="1600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n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9560" y="762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er ear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2840" y="23623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18840" y="2209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63960" y="2830680"/>
            <a:ext cx="2312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sul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96600" y="3200400"/>
            <a:ext cx="236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ppoin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8560" y="3519360"/>
            <a:ext cx="203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harm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3900600"/>
            <a:ext cx="1431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x of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4200" y="4205160"/>
            <a:ext cx="235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am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3280" y="4586400"/>
            <a:ext cx="25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prescribe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73680" y="4967280"/>
            <a:ext cx="178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8960" y="533412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30040" y="5638680"/>
            <a:ext cx="505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fulfill, to deal with, to dispa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7520" y="6019920"/>
            <a:ext cx="213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3040" y="6338880"/>
            <a:ext cx="188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am so sick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53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30:57Z</dcterms:created>
  <dc:creator>Helen Zumaeta</dc:creator>
  <dc:description/>
  <dc:language>en-US</dc:language>
  <cp:lastModifiedBy>Helen Zumaeta</cp:lastModifiedBy>
  <dcterms:modified xsi:type="dcterms:W3CDTF">2011-05-05T13:50:11Z</dcterms:modified>
  <cp:revision>3</cp:revision>
  <dc:subject/>
  <dc:title>Me llamo _________ Clase 8IM La fecha es el 5 de mayo del 2011</dc:title>
</cp:coreProperties>
</file>